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26313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73260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4149360" y="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261800" y="720360"/>
            <a:ext cx="4802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732960" y="4560480"/>
            <a:ext cx="5861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912024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4149360" y="912024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3BAE-7E56-473B-8BCD-B61A8846E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6216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2960" y="4560480"/>
            <a:ext cx="5861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and introd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 teac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 has used a SMARTboard in their classroom  for 3 years or m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used a SMARTboard in their classroom  from 1-2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oesn’t have a SMARTboard in their ro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352-2B69-40FE-92A0-56AE8565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9F82-7994-44F2-B6CF-57E0C507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04E-B2B4-40A2-82AB-20D43627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611-2C52-4CFB-B84A-BFC4C0ED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CA10-BB75-4251-A54F-EAE57622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4F60-A216-46DD-A18D-11A546CA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C1F5-C90A-46A2-BD0D-98C62D69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8781-73E2-42B6-8DB5-9501EDF7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EC11-69DD-445A-9435-4C969131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3520" y="110880"/>
            <a:ext cx="71625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E3B7-AD8C-47F3-A12F-B8D1100C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7C6C-9AC7-4F48-BBB3-14596184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CED6-138B-438A-93D8-20C5269C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7E39-33CC-4127-B93F-9AAC4ACE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6605-A9BD-4361-917D-ECE5060F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29AC-A360-46B0-9CF5-8949A30C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E09E-1D67-4664-B208-B977CD12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51DE-29D0-4749-9D97-A12D3CFB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DC7-06AF-46D4-931D-5FED6D61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718-BC73-4959-BB9F-766539B4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EB4-CCB3-4684-ACE2-220EBF3B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110880"/>
            <a:ext cx="71625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570-49A3-4D2C-BD85-DC7C20D4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4C2-FD48-4B12-A1F3-4373D18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6EC4-521F-49F5-A685-CAD4FDE5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03B-B322-4917-8A60-2B0C481D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AC0C-42DE-47FA-9050-EAC76C7A9EC9}" type="slidenum"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3AE7-F92B-410F-869A-D266209B3D7C}" type="slidenum"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ucation.smarttech.com/ste/en-us/Ed+Resource/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deal.azed.gov/" TargetMode="External"/><Relationship Id="rId2" Type="http://schemas.openxmlformats.org/officeDocument/2006/relationships/hyperlink" Target="http://www.thinkfinity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gwood.k12.ny.us/longsmart3.html" TargetMode="External"/><Relationship Id="rId2" Type="http://schemas.openxmlformats.org/officeDocument/2006/relationships/hyperlink" Target="http://www.amphi.com/departments/technology/whiteboard/lessonplans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603520"/>
            <a:ext cx="9144000" cy="242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reating Lessons on Interactive Whiteboards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Mitchell Elementary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Interactive Whiteboard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895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Power lies in interactivity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Can be used many ways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Graphic organizer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ternet activiti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PowerPoint presentation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Peer editing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219060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3" name="smartboard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0579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How to Create a Lesson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hink of your objective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How can you get students involved?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Engaging Lesson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2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Goal is to get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Comic Sans MS"/>
              </a:rPr>
              <a:t>them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up to the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know the materi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reate task for them to do that requires manipulation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ave rest of class help person at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9800" y="1295280"/>
            <a:ext cx="3771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ther students take turns at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ave one student per day designated as “moderator” or “helper”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Teacher on one side of board, student on other side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can in pictures or other resourc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Template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828800"/>
            <a:ext cx="853452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Lots of templates found in  SMART Design Gallery and Active Inspir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an find more on the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SmartTech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Comic Sans MS"/>
              </a:rPr>
              <a:t> site and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Promethean Plane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Websites to Explor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DE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ea typeface="Times New Roman"/>
                <a:hlinkClick r:id="rId1"/>
              </a:rPr>
              <a:t>http://www.ideal.azed.gov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og in and Find Curriculum Resources on the left side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scovery Education has outstanding resources for students and teacher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Thinkfinity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ea typeface="Times New Roman"/>
                <a:hlinkClick r:id="rId2"/>
              </a:rPr>
              <a:t>http://www.thinkfinity.org/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site is available for students, parents, and   teacher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Interactive Whiteboard Resource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eacher created lesson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Resources and Lesson Plans- Amphi District- Tucson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Resources to Explore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Learn Onlin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MART online professional development offering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Promethean Plane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lick on the Professional Development tab for option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More to Learn and Explor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Visi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Edtech4az wiki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omic Sans MS"/>
              </a:rPr>
              <a:t>Resources from this presentation and more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7:41:36Z</dcterms:created>
  <dc:creator>Kathy Wagoner</dc:creator>
  <dc:description/>
  <dc:language>en-US</dc:language>
  <cp:lastModifiedBy>alumm</cp:lastModifiedBy>
  <dcterms:modified xsi:type="dcterms:W3CDTF">2010-05-17T20:29:57Z</dcterms:modified>
  <cp:revision>71</cp:revision>
  <dc:subject/>
  <dc:title>Get Smart</dc:title>
</cp:coreProperties>
</file>